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0CE-4C04-471C-8A91-721B4E75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02A-540B-445F-A558-E538F82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85F-094A-4A5A-AB68-8D394DCA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235-9D2E-42B5-B293-013B4958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5826-FC56-4BC4-8BD7-761CC7DD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8FAB-9CC2-4938-B8E4-23EBB4ED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E2E9-401C-41BB-95BC-1338ABA4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165-EC88-41A4-B0DA-F1F6BBDA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822-B634-47DE-AD9C-60DB20F2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0861-0087-4D5E-847D-AAF9C0B8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4011-CDC9-4745-B0A4-493FEAFE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F04-331D-43AD-A89E-D9E46AE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26C1-55C3-4AFD-A9E4-B691FEA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2C4D-1315-44A6-903D-ACF8914B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8AFC-C9CB-4371-BABA-72C574D4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1DE5-52F4-4CDF-ADC6-7FFF0306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8120-C665-4A68-AE19-9F18052C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E534-273A-4395-8FDD-809389ED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ED05-2884-4449-9222-4E5C42DC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AD94-AB46-43CA-8072-46C4C193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E879-C654-4C67-A4E9-75B5A9D3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4104-DD0C-4D03-BE87-6A57139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BE7-5326-4808-B4E4-E115C455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D529-E780-4C38-8071-EF76ED10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4931-91D9-4C19-BC1A-DA0F2C2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F55A-839A-47ED-9BEC-B9A6EBB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647E-2F4B-415C-9601-F1643A2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627A-FD9B-49E8-9010-EBCE228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66C2-FD10-41C3-954C-48B9CC89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D328-B9E0-4F9A-B251-EA3977D0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870B-16CD-48A0-9770-AAB4A59A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7313-25D1-4FB2-8870-A2DCA83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461E-D001-4A13-A631-CE41019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06F-6B04-449B-9D9F-92BBAE0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3858-360D-4964-86E7-BDFBBCC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ED6E-5500-4A1E-840D-21880EB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D752-E19F-4EDD-80B4-7B57EA9A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3CD5-BBDD-484D-95B9-C0B9C79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8682-39A1-4B07-BDAF-9779237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CA4E-4825-4C88-834E-CDAEBC4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2CF0-E2F4-46D0-870F-AF8A7D6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737-E898-4477-8C61-72FCE580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F188-24EE-4084-A8CC-5A4AE73B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CF2-08A2-4B8C-B57F-1951DF54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13F-6456-418B-9FE9-CE3F5AE8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BDA-BA16-486E-B718-D38F09B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9CE-9166-426A-A806-160294A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16C-A20B-41EC-AE52-C336C66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4E13-395E-4D01-8EE3-C44A35B551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9CF-8DCB-4CC6-82FB-CB94DA0B48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E20-3B6C-4873-B0D6-9A015D2B4B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5324-332B-4D3C-A207-891345A4A8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6" descr="custom8.gif"/>
          <p:cNvPicPr/>
          <p:nvPr/>
        </p:nvPicPr>
        <p:blipFill>
          <a:blip r:embed="rId1"/>
          <a:stretch/>
        </p:blipFill>
        <p:spPr>
          <a:xfrm>
            <a:off x="6858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9ED-0CDE-43ED-A733-1A1D1F1E87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E82-AAD5-49D1-82FD-2291C4F33F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33520" y="144792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Now, calculate the average of each subject :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AVERGAE implied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func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custom calculations 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        (sum/count)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B6A-4A43-4AAD-8E1B-4427C0EBA5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custon9.gif"/>
          <p:cNvPicPr/>
          <p:nvPr/>
        </p:nvPicPr>
        <p:blipFill>
          <a:blip r:embed="rId1"/>
          <a:stretch/>
        </p:blipFill>
        <p:spPr>
          <a:xfrm>
            <a:off x="457200" y="1752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414-D476-487D-B2AE-05975A0AD3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custom10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of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,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,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3*5 = 2+ (3*5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+5= (2/3)+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rackets if you are conf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1BDC-0F45-411C-AAC1-8337C97129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Then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ar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 statement (option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If Mary’s Mark in subject1 &gt; 6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n, She pa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lse, She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F3A4-1272-4620-AE93-9D48C87391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&lt;logical statement&gt;, &lt;true statement&gt;, &lt;false statement&gt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B4&gt;60,"pass","fail"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If your result is string or you are testing string, you should use “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C05-43C3-4006-9FD2-E2BB4E5391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Content Placeholder 6" descr="If1.gif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A2CA-076F-4932-A06A-2F8C064710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6" descr="If2.gif"/>
          <p:cNvPicPr/>
          <p:nvPr/>
        </p:nvPicPr>
        <p:blipFill>
          <a:blip r:embed="rId1"/>
          <a:stretch/>
        </p:blipFill>
        <p:spPr>
          <a:xfrm>
            <a:off x="1066680" y="243828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6F5-D508-4A84-996F-F5853B0885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352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how to make if statement for subject 2 using Insert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D46-7A32-4712-AC41-B795BF50E5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8" descr="If3.gif"/>
          <p:cNvPicPr/>
          <p:nvPr/>
        </p:nvPicPr>
        <p:blipFill>
          <a:blip r:embed="rId1"/>
          <a:stretch/>
        </p:blipFill>
        <p:spPr>
          <a:xfrm>
            <a:off x="762120" y="1828800"/>
            <a:ext cx="71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be covered tod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alc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vot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277-F2EA-4F10-B10D-8C2487D729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094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apply the function for subject 3 as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we want the test to 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than or equ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BFD-AF51-4D88-967F-2D6BEBF70D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sted If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ject1 &gt;= 9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ubject2 &gt;=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IF(B4&gt;=90,"A", IF(B4&gt;=70,"B", “C")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38C0-D167-4B2B-98D4-A12B6E707E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1D4F-5780-4511-B966-B10F68CD5D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Content Placeholder 8" descr="If4.gif"/>
          <p:cNvPicPr/>
          <p:nvPr/>
        </p:nvPicPr>
        <p:blipFill>
          <a:blip r:embed="rId1"/>
          <a:stretch/>
        </p:blipFill>
        <p:spPr>
          <a:xfrm>
            <a:off x="380880" y="1600200"/>
            <a:ext cx="833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mmarize data in understanding m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0524-F7CF-4F40-BB04-427C7BE12A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Table 7" descr=""/>
          <p:cNvPicPr/>
          <p:nvPr/>
        </p:nvPicPr>
        <p:blipFill>
          <a:blip r:embed="rId1"/>
          <a:stretch/>
        </p:blipFill>
        <p:spPr>
          <a:xfrm>
            <a:off x="1755720" y="2901960"/>
            <a:ext cx="41086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inser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vot tab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r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ere to put the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 of inter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which to be in rows and which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calculation to be performed; Max, Average,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236-0CEF-4103-B8E1-024F6CD390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we have a code that we want it to be replaced with a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C699-DEB2-4B53-BA0C-318E693C34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Table 6" descr=""/>
          <p:cNvPicPr/>
          <p:nvPr/>
        </p:nvPicPr>
        <p:blipFill>
          <a:blip r:embed="rId1"/>
          <a:stretch/>
        </p:blipFill>
        <p:spPr>
          <a:xfrm>
            <a:off x="5413320" y="3054240"/>
            <a:ext cx="951120" cy="1268640"/>
          </a:xfrm>
          <a:prstGeom prst="rect">
            <a:avLst/>
          </a:prstGeom>
          <a:ln w="0">
            <a:noFill/>
          </a:ln>
        </p:spPr>
      </p:pic>
      <p:pic>
        <p:nvPicPr>
          <p:cNvPr id="317" name="Table 8" descr=""/>
          <p:cNvPicPr/>
          <p:nvPr/>
        </p:nvPicPr>
        <p:blipFill>
          <a:blip r:embed="rId2"/>
          <a:stretch/>
        </p:blipFill>
        <p:spPr>
          <a:xfrm>
            <a:off x="2212920" y="3279600"/>
            <a:ext cx="1974960" cy="9446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9"/>
          <p:cNvSpPr/>
          <p:nvPr/>
        </p:nvSpPr>
        <p:spPr>
          <a:xfrm>
            <a:off x="1882440" y="51055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LOOKUP(B4,F3:G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Look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 certain text, e.g. student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4400-FDAA-4295-BC3A-497CA8A46B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Table 6" descr=""/>
          <p:cNvPicPr/>
          <p:nvPr/>
        </p:nvPicPr>
        <p:blipFill>
          <a:blip r:embed="rId1"/>
          <a:stretch/>
        </p:blipFill>
        <p:spPr>
          <a:xfrm>
            <a:off x="1835280" y="2597040"/>
            <a:ext cx="1365120" cy="11336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516240" y="419112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want to lookup student with Id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VLOOKUP(3000,A5:B9,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ula: VLOOKUP(Value, table, column Ind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ucalgary.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cienc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3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_203_Templat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 203 Lab Manual for Winter 2009 \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 tu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ondu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99C-AA99-4030-B0C0-57B9F5E3DF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stom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your own Functions using “=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EB8-878C-45BC-9550-C4F72D19FF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custom1.gif"/>
          <p:cNvPicPr/>
          <p:nvPr/>
        </p:nvPicPr>
        <p:blipFill>
          <a:blip r:embed="rId1"/>
          <a:stretch/>
        </p:blipFill>
        <p:spPr>
          <a:xfrm>
            <a:off x="1066680" y="2514600"/>
            <a:ext cx="6669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6" descr="custom2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83D5-4045-4409-BAEA-EB83182ADD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ustom3.gif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E2A0-1A26-4C47-9E59-D9C8CE11DC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6" descr="custom4.gif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849-90A9-49BB-8242-A3FE67FF1B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Content Placeholder 6" descr="custom5.gif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6BC-4BA0-4163-923B-4665C2A270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90D6-1504-45F4-89B2-A0AAF485F8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7" descr="custom7.gif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1T19:42:58Z</dcterms:modified>
  <cp:revision>56</cp:revision>
  <dc:subject/>
  <dc:title>CPSC 203</dc:title>
</cp:coreProperties>
</file>